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D27-3057-4FF8-8CB4-0C0C455B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F94-25C5-4910-B5AA-A1E1F4A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89B21-8FA7-4196-8544-7FFC34F0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E1D3C-6C80-4196-8F30-F3D4C5B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396C2-C716-44FC-91C4-26C100AE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13024-097A-4754-8508-8301701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E1510-8E53-4B3B-97B9-F0A81D42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0A62E-E073-4951-BDD2-1851FFC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82627-9990-461E-A6AB-B991F69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A0FE1-C12E-4D3A-BACC-924BEF0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62A08-1438-49C2-9DE9-F5D29BEF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C9C-3A8F-4E8B-9759-B08BA415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E44-D08F-4321-B776-92E75796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C79-EEDB-4B0A-B5D9-285D47B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2DD-457A-4DF1-8C44-7544B92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18159-2E9A-4CBC-858B-A122C812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65097-052E-4A13-ACDA-D048C54A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043B6-C718-4945-80CB-A3CAF824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769-6B09-4CD5-87B9-1979D21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86413-7112-4629-8B72-3E1A52A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66B37-5D35-41DD-8AC2-FC0F7583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56126-8727-49FE-AE4C-4B98786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E3641-B4DF-4912-BBDC-0D0FEE6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32ABA-081C-49CF-98E1-B17BF0A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3955C-D012-4F8F-9709-63F7278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24EA4-AF88-4EA6-88C6-C448488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6F5CA-4318-4C2A-96F6-2413CCBC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763A2-56DE-49FB-BD40-76587FD0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CBD4F-CA2C-4429-8B17-B739AAAF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9D3-D07C-4A5F-B36C-D3E742C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C558F-3734-48E0-8E1A-97DA1FA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12EB1-5FDB-4CE8-B36E-3EC85138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2EB2B6-BA6D-4028-91E6-8755CBC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34ADA-B935-40DD-B2A7-7B7C55A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2BBDC-F48B-4FC9-A6CA-7AE710B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FF6D5-655E-4A82-B217-369C9EC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D9021-4F62-4E4B-AA6E-486D740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767FB-A887-4FEA-88D8-1570E70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A0803-0853-46C7-8803-608C0072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6105C-CCF9-4865-81AF-33FE139B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4B6-267C-4C9D-9774-3140F43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A5D2A-6D25-42C5-8050-942EFB65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928DF-ACE3-43F9-9161-2221FDEE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D2518-307F-4F14-957E-A0DF4ABF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8983B-F353-4908-BD76-7B58671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320521-A790-4B37-ABF6-2DBF90B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8A232-35CC-49B5-8D39-40C712C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12B76-062B-4697-945E-DBEC5D4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CD9D8-FF32-449A-817E-EE9B10BC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A4870-FD58-43B1-8804-0DD5937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D6B97-28E8-49F5-8EE0-1E5FE4A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7CA-FBB2-4BD4-A4E3-A2ADE42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684D5-770D-4021-9E4F-E582462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C4BA7-D01B-429B-B67B-802DF49D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51145-9EAC-4CAA-8332-E0791BD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DCEF5-6FA8-4391-A52C-09830F91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60DE3-0A6C-491A-8187-6068444B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4AF683-161C-4D87-A545-7324B7F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846CC-6E96-424A-8D69-BB91CFF1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653BD-50F2-4619-AA4F-98C0EC8E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5406F4-3648-4B9D-BF7C-ADFCE54F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D45352-0F9E-4BBC-A957-D2BF305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6C3-94F2-4797-AF32-9910A89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612226-A4D5-4BB9-B027-E9DDA43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C3072-D784-480D-9BB9-E5871F9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9497F-7C52-453A-B19F-A0315B1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B19E0-B31E-454E-B1CE-74247622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B8619-2A01-4D41-B006-89A65AC9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509A8B-EA30-4C3E-8AAD-53764A3E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D8071-2BBB-43C0-BAC7-5A951D68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C4F6D-7BAE-4237-9439-E9C7E47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BF411-DA06-4FFC-ACB7-3FCC3C2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830EC-2686-4FD3-AE83-F187594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FE5-9427-42BD-B034-DB2E3BD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B774F5-4DF4-4A45-85F2-0C5B541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0A721-632F-4B2B-A161-FC517BF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3E78C3-9758-4B36-9FD9-1F9FD5F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EC843E-8650-4F6E-A762-382C79C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FB4D39-6446-4E30-B9A9-ED58987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604BF-2D49-4740-B614-301B0835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8428F-7DEA-4CFC-91D2-65DFF4BC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BAC4C-CFE6-41A2-930F-F97AC205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F0D83-8FC8-4ED9-96D7-0489184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E8FD4-FD3A-4832-9EBD-E7856447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3B0FA-FA95-4626-BCCB-BCF249E62D03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52B48-DC2A-492B-AA98-7A60150338F7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FE8EB-DD71-4820-ABC9-2ABAEA6449A9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79463-350D-44EE-9955-845031AB516A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62BFB-BBC8-4376-B696-5B9B871A653E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CAC66-E758-45E5-AAF5-ABD2F0AA28E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2126D-89FC-443A-BBA3-555325A00F5D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3C776-DFAB-426A-BE6D-96C7E65BC33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D3CD3-3D95-4D55-9BD3-73A00DB2A309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123ED-647F-4756-9B78-94F2D1FF518E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B14E2-01A4-44F9-B8A5-733BCC436D63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D62E5-92DA-420D-86A1-EE345EBE78FC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7548F-D212-4E1F-8B94-3E9E00BFFCE1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3EAF6-007F-4F7F-B7F8-6A7A15546D77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06906-3D47-46F8-B5F7-E9F45910D5E6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897E0-4E0A-4588-89EE-6FCA48E1483C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431"/>
                </a:solidFill>
                <a:latin typeface="Book Antiqua"/>
              </a:rPr>
              <a:t>Do Now – Write down the date, objective, and the question below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</a:rPr>
              <a:t>What happens if plants don’t get any sunlight?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728720"/>
            <a:ext cx="88898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The arctic fox is an incredibly tough animal that can survive cold Arctic temperatures in the treeless lands where it makes its home.”  Treeless lands refer to the fox’s ____________.</a:t>
            </a:r>
            <a:endParaRPr b="0" lang="en-US" sz="5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1728720"/>
            <a:ext cx="88898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Female arctic foxes give birth each spring to a large litter of up to 14 pups.” A fox’s offspring are called </a:t>
            </a:r>
            <a:r>
              <a:rPr b="0" lang="en-US" sz="6100" spc="-1" strike="noStrike">
                <a:solidFill>
                  <a:srgbClr val="ffffff"/>
                </a:solidFill>
                <a:latin typeface="Book Antiqua"/>
              </a:rPr>
              <a:t> ____________.</a:t>
            </a:r>
            <a:endParaRPr b="0" lang="en-US" sz="6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4431"/>
                </a:solidFill>
                <a:latin typeface="Book Antiqua"/>
              </a:rPr>
              <a:t>Remember to put your Name, Date, and Class Period at the top of your paper</a:t>
            </a:r>
            <a:endParaRPr b="0" lang="en-US" sz="3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ffffff"/>
                </a:solidFill>
                <a:uFillTx/>
                <a:latin typeface="Book Antiqua"/>
              </a:rPr>
              <a:t>1.3 Cell Processes: Class Notes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Organisms and Ener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ffffff"/>
                </a:solidFill>
                <a:uFillTx/>
                <a:latin typeface="Book Antiqua"/>
              </a:rPr>
              <a:t>There are three ways organisms can get their food and the energy they need to survive. 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Organisms and Ener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Energy is transferred from the sun to plants to animal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Book Antiqua"/>
              </a:rPr>
              <a:t>How is energy transferred?</a:t>
            </a:r>
            <a:endParaRPr b="0" lang="en-US" sz="7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Producers can make their own food. Producers are also called autotroph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527120"/>
            <a:ext cx="91440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Plants are producers.  They make their own food from sunlight. This process is called photosynthesis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1527120"/>
            <a:ext cx="91440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In photosynthesis, plants use light energy to make sugar, which they use for food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.3 Cell Process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How does a producer get its food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What is another word for producer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What is photosynthesis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onsumers cannot make their own food.  Consumers are also called heterotroph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onsumers must get their food by eating other organism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When a consumer eats another organism, it gets sugars that were stored in that organism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ellular respiration is the process in which the organism breaks down sugar to release stored chemical energy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Can consumers make their own food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do consumers get energy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Agend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omework Chec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act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view and Quiz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ourna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at is another name for a consumer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at is cellular respiration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Decompos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Book Antiqua"/>
              </a:rPr>
              <a:t>Decomposers like fungi get their energy by consuming dead organisms.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Book Antiqua"/>
              </a:rPr>
              <a:t>What is a decomposer?</a:t>
            </a: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ategory Gam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dependent Practi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</a:rPr>
              <a:t>Silently complete the worksheet.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FAQ about your Organ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does it live (geographically)? What is its habit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formation about its offspring (name, #, frequency etc.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ow does it grow and develop (size, etc.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does it eat?  Is it a producer or consumer?  Omnivore, herbivore, or carnivor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adaptations does it have to surviv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un fact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 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 Reflec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mework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Put your homework in the homework section of your binder.  Look at your paper and check your answers as we review them.  Put a √ for correct and an x for incorrect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do organisms need to survive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a habitat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homeostasis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one example of homeostasis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2:23:36Z</dcterms:created>
  <dc:creator>Caroline Roth</dc:creator>
  <dc:description/>
  <dc:language>en-US</dc:language>
  <cp:lastModifiedBy>Caroline Roth</cp:lastModifiedBy>
  <dcterms:modified xsi:type="dcterms:W3CDTF">2011-05-23T04:26:01Z</dcterms:modified>
  <cp:revision>13</cp:revision>
  <dc:subject/>
  <dc:title>Slide 1</dc:title>
</cp:coreProperties>
</file>